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BBD-7F8A-4A4E-9FF7-878700CC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978-953F-42AE-9E42-FDF08F20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D28-9F85-464D-B0E4-7B315385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FEAB-2E73-4F99-B915-BFFADB82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FC5-0BB1-43AD-9C15-3BB97637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EFC4-3543-447A-BBE5-7F7389F9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B1AF-859B-494B-9DD9-0F9E310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BE90-10DA-40A8-8BAF-23514779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846C-B55C-4A73-84BB-7256ABBC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8BCF-FDE8-4052-AE61-6C26D3B5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4CDA-F1B2-4CF9-BA54-EA0E8862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C57-13E2-43B1-A897-6E999941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4010-84DD-4D51-BDEE-8B07703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BCBA-DFC2-43E3-B743-BF41243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2D18-3938-41A4-BDD6-A317324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FC7B-D6C0-42F7-B60C-2E2AAC88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B038-0298-4E7A-8057-7ABC7621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FE79B-5C8C-4985-A07C-FBD649A4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8AA114-9F82-4D2E-9C49-B225329E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6FF17-246E-4945-BFA0-A9C3F9E7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C9C1B-FC3E-48A8-A5B1-B2006863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2228D-4D82-4E26-AC39-B2D360D8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D77-E3A4-49D8-AFFC-DA0C126A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AB732-A4DA-41B6-8A99-C9BA8836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3880B-1C95-40EC-973F-2E9D135D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CE481-D52C-470C-802B-524B3CD8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87600-A6EE-4F4B-8237-5DE8BC28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0E19F-7FDD-4940-97C2-C8487B65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C9A05-C0B3-4510-9A8B-F5B7A182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DF342-B3E1-4639-919F-0C6CA5B5F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4737-282B-4281-BDC6-83FE5E07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EE8DF-E680-481F-ACD3-36839184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06994-2825-4AEC-81F9-109121A4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BC44-DEF2-4E53-B3E5-CD1F918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69939-09FB-4006-93ED-BABEB7C6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CCE6D-3663-4926-9413-D732765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73BA-1CC0-423F-A0F3-B0CF1A3B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E7EB-4494-4E1A-AEEE-96BCE11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1BCD-46ED-49E7-B94A-8D4ECDD0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7C76C-483D-467A-A279-E4CD097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26B9C-0A1B-4839-ADC9-F64284B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204BC-48F7-4104-8C66-8506CD0A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F601-A184-42C9-8B55-4A1B6AFD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CBDCB-645E-4CE9-BBC4-51E67E74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820-7CBA-4179-8FC6-9BD6BCD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D979A0-045D-4A43-B930-4E9AE3E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AEB2B-3794-4F72-8BE4-9ADE6438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16D2AF-5BFF-45DA-B2B7-14BDF483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016E3B-5E0D-469F-A8D1-F08D957E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E8E0F-1FE9-4636-B4FB-68E9A0D5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A9BCC-7861-484B-9736-4F179F96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6D997-A6C0-49BF-9DA5-8656587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CCB33-9E8C-4D1B-926C-2A4799DA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53200-1100-4924-925C-660D4EC6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14A13-E10E-426D-A50C-50812304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6E9-046D-4369-80EC-FE930913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39D2C-399A-4B9B-A648-B5A5C937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416A1-1ADA-4D3B-A911-639BFCEC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72BEB-9158-4FFC-914F-1AF7B9B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A46640-46E6-4562-96D4-ED07570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8A6594-2783-4AEC-B0B1-417380AF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6488F5-1FD7-43DB-BE20-953F7D88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0F5F2-2C19-4A43-A241-B0F36C12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0C9F3-57D3-4839-8F63-56AAF08A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41D10C-2185-4FCE-8F5F-7C90E06B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2DF69-46E8-44B3-A196-A450532A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AC0-C56F-460D-8383-7975DC85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A7086-C2C8-412F-8B96-D572BB18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3A708-2500-473B-B42E-6538E20D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D8C541-3E56-4326-A2F5-71D45095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68A57-DAB8-4F57-AFCA-E4EE7A536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B5079-A728-448A-B4D5-D2505E31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21604-CD77-43AA-9144-E7F4DBB9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9B3F66-A4B9-4983-927D-3B37D5C1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406E27-D7D7-4264-913D-5A811867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EFA84A-764A-4FC2-BCED-68455F3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87F35-97B7-4244-881A-0814E984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9A4-A619-4737-B873-5626613F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13E361-462F-4084-A560-BFD46815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1AD69-986F-489E-B26C-FE570E1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3E30D-055A-4136-9292-91EAF32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24C669-094B-48B2-9975-6C10DC3E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E6C0F7-3EFC-4E2C-A9E9-00BD698E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32C-5234-4F7D-B863-6C09EE69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84D1-1D5A-4DCB-AE93-8AFAA667EC1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6671-637D-4BDF-9C7F-41C745A0143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1C9A-4300-4D39-A9D7-9528E828381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240A-12CD-4AE1-89A1-8EA25680AAD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15DE-7443-4ECF-8E14-B1BB20B6C02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3F31-0889-4024-9804-BCA0FA9EB32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371C-E10D-41A1-9C8A-DD27C59D74F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" descr="LastScan.bmp"/>
          <p:cNvPicPr/>
          <p:nvPr/>
        </p:nvPicPr>
        <p:blipFill>
          <a:blip r:embed="rId1"/>
          <a:stretch/>
        </p:blipFill>
        <p:spPr>
          <a:xfrm>
            <a:off x="762120" y="1219320"/>
            <a:ext cx="7467480" cy="54100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7"/>
          <p:cNvSpPr/>
          <p:nvPr/>
        </p:nvSpPr>
        <p:spPr>
          <a:xfrm>
            <a:off x="1295280" y="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MON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914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Kathy sells 8 cups of lemonade, how much money will she ma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UE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f Kathy fills 4 more cups, sells 2 of them, then fills 6 more cups, how many cups of lemonade will she have then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WEDNE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 pitcher holds 15 ounces of lemonade, how many full cups will Kathy be able to pour from 1 pitcher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HUR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Kathy stops selling lemonade after 1 hour, what time will it b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FRI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a friend buys 3 cups of lemonade with a half dollar, how much money will Kathy give back to her frien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03:23:35Z</dcterms:created>
  <dc:creator> </dc:creator>
  <dc:description/>
  <dc:language>en-US</dc:language>
  <cp:lastModifiedBy>127partidak</cp:lastModifiedBy>
  <dcterms:modified xsi:type="dcterms:W3CDTF">2011-10-25T21:10:29Z</dcterms:modified>
  <cp:revision>8</cp:revision>
  <dc:subject/>
  <dc:title>Slide 1</dc:title>
</cp:coreProperties>
</file>